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EE0-577A-4071-9FFE-5F69AF85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01B-EB8D-41D4-B707-E1CC0CF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CBB-A34F-4D31-9012-4E87052F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5F7-9A9B-433C-A9CB-D59195C7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CEA-24C3-4CE3-86A2-670F771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306-EF56-4B34-84F2-83F3201B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B48-8243-4985-BD25-A28F305F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762-F6F7-464D-B453-8C5657D6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D69-ADE6-46FD-B1D5-4E9CEB5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AF2-151D-4ADD-AD7E-05D1CFD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9C9-C905-41C6-B98C-C63FD32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DFB-0B73-4CA9-8843-DC5C947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8ED-1A95-4974-928E-67AE4294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chool-kids-clipar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18148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un Learning Acade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5333760"/>
            <a:ext cx="312444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rad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umber of Students: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monstrate in class how proper personal hygiene is being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n artwork that will express their feelings at the end of the instructional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iculum Fram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senti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personal hygiene can affect your future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per personal hyg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ental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ir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hysical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proper personal hygiene is being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proper personal hygiene a vital part of our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integrate proper personal hygiene in your daily liv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42640" y="685800"/>
            <a:ext cx="7543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yg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per personal hyg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necessary steps for dental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necessary steps for hair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necessary steps for physical ca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project work beg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will give activities that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the topic. Subsequ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will be dropped by the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lead to 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ork on projects and complete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eacher will show a video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 personal hygiene follow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ecture, demonstration, grou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y pair) as a drill on proper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g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project work is comple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will use an individ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worth 20 points on th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individualize approach,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will give a ten-item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the teacher will give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for the students to make a sc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or an artwork that will show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uring understanding on pr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hyg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notebo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7720" y="23320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proper personal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ays to get my students practice the proper personal hygiene not just inside the four walls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some strategies for helping other students to share what they have learned on the instructional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lean_items"/>
          <p:cNvPicPr/>
          <p:nvPr/>
        </p:nvPicPr>
        <p:blipFill>
          <a:blip r:embed="rId1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3886200" cy="146988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FEGU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 lesson on Personal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hygiene is the collection of practices a person habitually performs to maintain good health. Hygiene plays an important role in looking and feeling physically and emotionally well. Proper hygiene practices can not only protect individual heal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notebook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health of all people a person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into contact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stance, viruses and bacteria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spread amongst people du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hygiene. Children are comm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about personal hygiene at a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so routine practices may develop early in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7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proper personal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lling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grouped by pair and will demonstrate in class the topics to be discu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make a scrap book or an ar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-pencil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are grouped by pair will create a jolly song (steps on the topics discuss) will be the lyrics of the joll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write on their journal notebook the proper personal hygiene that they perform at home for 5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roles assume in the project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expected to become leaders and at the same time fol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Effectively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ed standard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instructional segment, the student should be 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dentify the steps on proper personal hyg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00:26Z</dcterms:created>
  <dc:creator>nave1386</dc:creator>
  <dc:description/>
  <dc:language>en-US</dc:language>
  <cp:lastModifiedBy>acer</cp:lastModifiedBy>
  <dcterms:modified xsi:type="dcterms:W3CDTF">2010-09-20T05:45:05Z</dcterms:modified>
  <cp:revision>22</cp:revision>
  <dc:subject/>
  <dc:title>Good Personal Hygiene</dc:title>
</cp:coreProperties>
</file>